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gif" ContentType="image/gif"/>
  <Override PartName="/ppt/media/image3.png" ContentType="image/png"/>
  <Override PartName="/ppt/media/image5.png" ContentType="image/png"/>
  <Override PartName="/ppt/media/image6.pct" ContentType="image/x-pict"/>
  <Override PartName="/ppt/media/image7.png" ContentType="image/png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235080"/>
            <a:ext cx="8458200" cy="633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cc"/>
                </a:solidFill>
                <a:latin typeface="AbcBulletin"/>
              </a:rPr>
              <a:t>Guess the Covered Word</a:t>
            </a:r>
            <a:endParaRPr b="0" lang="en-US" sz="72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Spelling Words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Week 3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5029200"/>
            <a:ext cx="7467480" cy="764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The dog is </a:t>
            </a: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on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 the b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5105520"/>
            <a:ext cx="609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7242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14400" y="4419720"/>
            <a:ext cx="7391520" cy="8251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   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We are best frie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4495680"/>
            <a:ext cx="914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2997360" cy="2539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43000" y="4191120"/>
            <a:ext cx="7391520" cy="8251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   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We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are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best frie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267080"/>
            <a:ext cx="914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2997360" cy="2539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838080" y="76212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ook at th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s quickly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n we wil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pell the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gether b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hanting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09680" y="236232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h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fo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cc33"/>
                </a:solidFill>
                <a:latin typeface="AbcPrint"/>
              </a:rPr>
              <a:t>wa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o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a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95480" y="762120"/>
            <a:ext cx="3427560" cy="3871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080" y="48769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cPrint"/>
              </a:rPr>
              <a:t>Mickey says, “You did A-OK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609480"/>
            <a:ext cx="69343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 Bold"/>
              </a:rPr>
              <a:t>Say the word as the arrow points 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ff0000"/>
                </a:solidFill>
                <a:latin typeface="AbcPrint"/>
              </a:rPr>
              <a:t>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33cc"/>
                </a:solidFill>
                <a:latin typeface="AbcPrint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was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9900cc"/>
                </a:solidFill>
                <a:latin typeface="AbcPrint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cc33"/>
                </a:solidFill>
                <a:latin typeface="AbcPrint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3623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20040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0384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8769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6386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4419720"/>
            <a:ext cx="541008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He is going fish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4419720"/>
            <a:ext cx="914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25621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57400" y="4419720"/>
            <a:ext cx="541008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He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is going fish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4419720"/>
            <a:ext cx="914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25621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4876920"/>
            <a:ext cx="71629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    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He has a present </a:t>
            </a: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for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495288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43200" y="1670040"/>
            <a:ext cx="3505320" cy="2978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4876920"/>
            <a:ext cx="71629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    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He has a present </a:t>
            </a: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for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495288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43200" y="1670040"/>
            <a:ext cx="3505320" cy="2978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4343400"/>
            <a:ext cx="716256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The boy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was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flying a ki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4267080"/>
            <a:ext cx="9907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37339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4343400"/>
            <a:ext cx="716256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The boy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was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flying a ki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4419720"/>
            <a:ext cx="914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37339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5029200"/>
            <a:ext cx="7467480" cy="764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The dog is on the b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5105520"/>
            <a:ext cx="609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7242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9-09-02T02:35:42Z</dcterms:modified>
  <cp:revision>17</cp:revision>
  <dc:subject/>
  <dc:title>Guess the Covered Word</dc:title>
</cp:coreProperties>
</file>